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0AF9-247A-4990-A367-BF25BD727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8E5C-A609-4109-AD92-4988C7CD2B98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D9AE-00CF-4DF0-A16B-A964A6DD34E0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8CDF-3D44-4527-B34E-E30030B2B171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2AEA-0B1C-48D6-A02F-51B3BD05A42F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ADE4-DACB-4403-9CCC-CB7F4C3EAAE4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C01B-7B49-48D6-8997-E520E43C7C26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AB72-F7DF-424E-BDDA-252D59C5BB54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DCFB-9E93-4CC7-B12F-4730A31DD404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DAC7-868F-4BE7-B2C7-88BAE3C49F83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19D7-273F-4834-ADAE-B1BFE3B466DC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975B-F4FA-4795-B8C3-12B69F9B6513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641-0CF9-4EB9-907A-A9A4AC431C1D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3019-A394-474B-A27B-4094AD6845F4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6D33-5F7C-4AFF-BD3B-49A24CB157FE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2534-1D35-4D1F-9638-2BB0916CB60F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E305-BA94-42DB-8DDB-7166B3E4E186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C1F7-7DFF-46A8-8EC5-2A5838DF25A5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550D-33DE-4D4A-B22B-CEBF654AE425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A5C0-D9C4-4131-B4C0-FD26BD1AAB95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0860-7838-44D0-AD0A-7CF8FD36493D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F60F-9093-4E7C-B56A-B8318542260B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DA85-E402-4FA1-A823-11107E2F8C53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ECE5-B3CC-4F5D-9803-F4C705676011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2EB6-4189-4FA2-AAB4-1D7A7EB3843A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7A66-527F-4D5A-8369-6A549806E0AA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6793-D3C1-4313-9C35-77508D2F611B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E5AE-19FA-41B9-BA27-218EC4A9D0E1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BE1A-8A38-497D-B780-FB75229B1336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059F-93EF-4E98-A2BA-E67F3776ABD5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A6A3-5044-438B-8F8B-099207652F53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39CA-5F6E-4DF6-AB9A-E1314D6C25BF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415-89CF-4556-9291-353E7481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D32-85B1-447A-880F-C76D6122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E66-867D-4898-9906-875B3744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892-DE46-498C-A870-6C899048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4747-CF77-472E-A86B-C511E2A8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2B97-1761-4312-A0BF-CD0BC3C2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6295-A47F-4B2C-A948-B2DA69AD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5ECD-C3A1-4EBB-B608-3DED9DAE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1882-E1B8-4FCD-8AD3-8F33D276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2481-01E0-49AC-8A80-1A6525CD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377A-D000-44A9-A422-3F352B3B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2EB-5C83-4346-A1F6-ABE5DEB1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7CDB-92E5-43F9-A762-93F9526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4D3F-71D2-4EAD-92F4-C1E3709B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7452-B117-4F7D-A009-A24A0FDE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1443-DAF5-426A-8EA2-F56B79C2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3298-4B89-4C23-9843-3E3013E0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17C-BEE3-48F0-9E5F-E44D5441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6D1-C17B-4013-93F5-DBE63E2A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5A7-0167-4C83-B9FD-7756D371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461-7C0D-400E-B7D7-DFE02E84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FF5-9F4F-4413-94C3-25776CD3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664-41CE-4366-BED4-7E385FA6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238-4FE4-4E33-ABF6-ADC8BCE3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7C7F-16D4-4531-99D5-F3576303CC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4BCC-3B2F-46DD-8248-38C4F6C70294}" type="slidenum">
              <a:rPr b="0" lang="en-US" sz="1200" spc="-1" strike="noStrike">
                <a:solidFill>
                  <a:srgbClr val="00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ist_of_United_States_metropolitan_statistical_areas_by_population" TargetMode="External"/><Relationship Id="rId2" Type="http://schemas.openxmlformats.org/officeDocument/2006/relationships/hyperlink" Target="http://en.wikipedia.org/wiki/New_Orleans,_Louisiana" TargetMode="External"/><Relationship Id="rId3" Type="http://schemas.openxmlformats.org/officeDocument/2006/relationships/hyperlink" Target="http://en.wikipedia.org/wiki/Charleston,_South_Carolina" TargetMode="External"/><Relationship Id="rId4" Type="http://schemas.openxmlformats.org/officeDocument/2006/relationships/hyperlink" Target="http://en.wikipedia.org/wiki/Richmond,_Virginia" TargetMode="External"/><Relationship Id="rId5" Type="http://schemas.openxmlformats.org/officeDocument/2006/relationships/hyperlink" Target="http://en.wikipedia.org/wiki/Mobile,_Alabama" TargetMode="External"/><Relationship Id="rId6" Type="http://schemas.openxmlformats.org/officeDocument/2006/relationships/hyperlink" Target="http://en.wikipedia.org/wiki/Memphis,_Tennessee" TargetMode="External"/><Relationship Id="rId7" Type="http://schemas.openxmlformats.org/officeDocument/2006/relationships/hyperlink" Target="http://en.wikipedia.org/wiki/Savannah,_Georgia" TargetMode="External"/><Relationship Id="rId8" Type="http://schemas.openxmlformats.org/officeDocument/2006/relationships/hyperlink" Target="http://en.wikipedia.org/wiki/Petersburg,_Virginia" TargetMode="External"/><Relationship Id="rId9" Type="http://schemas.openxmlformats.org/officeDocument/2006/relationships/hyperlink" Target="http://en.wikipedia.org/wiki/Nashville,_Tennessee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57200" y="14479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ahoma"/>
              </a:rPr>
              <a:t>Chapter Fifteen: 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ahoma"/>
              </a:rPr>
              <a:t>The American Civil War, 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ahoma"/>
              </a:rPr>
              <a:t>1861-1865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ahoma"/>
              </a:rPr>
              <a:t>HIST 2111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0880" y="914400"/>
            <a:ext cx="4267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South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National independenc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Slaver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To save culture/way of lif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North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Republican experiment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To keep Union intact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Some for racial equalit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What they Fought For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380880" y="1143000"/>
            <a:ext cx="4267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Population: 22 to 9 mi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More urba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Industry, ships, amm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Better transporta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More food, more soldier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Union Advantages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12319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48320" y="1219320"/>
          <a:ext cx="4303440" cy="4394160"/>
        </p:xfrm>
        <a:graphic>
          <a:graphicData uri="http://schemas.openxmlformats.org/drawingml/2006/table">
            <a:tbl>
              <a:tblPr/>
              <a:tblGrid>
                <a:gridCol w="374400"/>
                <a:gridCol w="1920960"/>
                <a:gridCol w="1238400"/>
                <a:gridCol w="7696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ity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860 Population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US Rank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New Orleans, Louisian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68,675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Charleston, South Carolin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0,522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Richmond, Virgini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7,910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Mobile, Alabam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9,258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Memphis, Tennessee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,623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Savannah, Georgi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2,292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Petersburg, Virgini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8,266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Nashville, Tennessee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6,988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orfolk, Virgini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4,620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heeling, Virgini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4,083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lexandria, Virgini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2,652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ugusta, Georgi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2,493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lumbus, Georgi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9,621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tlanta, Georgi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9,554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ilmington, North Carolina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9,553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99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304920" y="762120"/>
            <a:ext cx="434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Un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Anaconda Plan: surround, choke off South and break its will; later on destroy everything and free slav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CSA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Hold out long enough to discourage Union and get foreign help; attack on occas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Fighting in east, western areas/MS, coastal waters, territori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Union and CSA Strategy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ivil war strategy"/>
          <p:cNvPicPr/>
          <p:nvPr/>
        </p:nvPicPr>
        <p:blipFill>
          <a:blip r:embed="rId1"/>
          <a:srcRect l="0" t="5002" r="0" b="5002"/>
          <a:stretch/>
        </p:blipFill>
        <p:spPr>
          <a:xfrm>
            <a:off x="990720" y="0"/>
            <a:ext cx="662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380880" y="1143000"/>
            <a:ext cx="4267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3366cc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 Battle of Bull Run/1</a:t>
            </a:r>
            <a:r>
              <a:rPr b="0" lang="en-US" sz="2400" spc="-1" strike="noStrike" baseline="30000">
                <a:solidFill>
                  <a:srgbClr val="3366cc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 Manassas (’61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CSA wi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Stonewall Jackso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Major Battles/Events of the Civil War (1861-1865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24" name="Picture 7" descr="manassas_henry5"/>
          <p:cNvPicPr/>
          <p:nvPr/>
        </p:nvPicPr>
        <p:blipFill>
          <a:blip r:embed="rId1"/>
          <a:stretch/>
        </p:blipFill>
        <p:spPr>
          <a:xfrm>
            <a:off x="4648320" y="838080"/>
            <a:ext cx="3962160" cy="2978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manassas_ts9b"/>
          <p:cNvPicPr/>
          <p:nvPr/>
        </p:nvPicPr>
        <p:blipFill>
          <a:blip r:embed="rId2"/>
          <a:stretch/>
        </p:blipFill>
        <p:spPr>
          <a:xfrm>
            <a:off x="4952880" y="4010040"/>
            <a:ext cx="3791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shiloh3"/>
          <p:cNvPicPr/>
          <p:nvPr/>
        </p:nvPicPr>
        <p:blipFill>
          <a:blip r:embed="rId1"/>
          <a:stretch/>
        </p:blipFill>
        <p:spPr>
          <a:xfrm>
            <a:off x="5791320" y="1219320"/>
            <a:ext cx="2990880" cy="2447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80880" y="1143000"/>
            <a:ext cx="4267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Mississippi River/KY/TN battles (’62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Fort Donelso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Battle of Shiloh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Ulysses S. Grant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Major Battles/Events of the Civil War (1861-1865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29" name="Picture 9" descr="fortdonelson4"/>
          <p:cNvPicPr/>
          <p:nvPr/>
        </p:nvPicPr>
        <p:blipFill>
          <a:blip r:embed="rId2"/>
          <a:stretch/>
        </p:blipFill>
        <p:spPr>
          <a:xfrm>
            <a:off x="2209680" y="3429000"/>
            <a:ext cx="47246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1066680"/>
            <a:ext cx="42670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Battle of Antietam/Sharpsburg (1862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Maryland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Single bloodiest day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Tie/slight Union wi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The Emancipation Proclamation (1862/3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Lincoln orders all slaves in CSA to be freed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Military raids follow (4 mil affected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Major Battles/Events of the Civil War (1861-1865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32" name="Picture 9" descr="James Hope's Painting looking north"/>
          <p:cNvPicPr/>
          <p:nvPr/>
        </p:nvPicPr>
        <p:blipFill>
          <a:blip r:embed="rId1"/>
          <a:stretch/>
        </p:blipFill>
        <p:spPr>
          <a:xfrm>
            <a:off x="3352680" y="1143000"/>
            <a:ext cx="57913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80880" y="1143000"/>
            <a:ext cx="4267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The Battle of Fredericksburg (1862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CSA wins, protects Richmond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Battle of Chancellorsville (1863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CSA wi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Stonewall Jackson di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Turning point 1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Major Battles/Events of the Civil War (1861-1865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35" name="Picture 7" descr="Press_Forward_Men"/>
          <p:cNvPicPr/>
          <p:nvPr/>
        </p:nvPicPr>
        <p:blipFill>
          <a:blip r:embed="rId1"/>
          <a:stretch/>
        </p:blipFill>
        <p:spPr>
          <a:xfrm>
            <a:off x="3886200" y="3371760"/>
            <a:ext cx="52578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0" y="914400"/>
            <a:ext cx="48769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Battle of Gettysburg (July 1863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Meade/Union def. Lee/CS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Ends Lee’s invasio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Pickett’s charg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Northern morale booster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Major Battles/Events of the Civil War (1861-1865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38" name="Picture 7" descr="3698"/>
          <p:cNvPicPr/>
          <p:nvPr/>
        </p:nvPicPr>
        <p:blipFill>
          <a:blip r:embed="rId1"/>
          <a:stretch/>
        </p:blipFill>
        <p:spPr>
          <a:xfrm>
            <a:off x="2362320" y="2895480"/>
            <a:ext cx="5371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380880" y="1143000"/>
            <a:ext cx="4267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The Siege of Vicksburg (1863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Grant wins/Union controls MS River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The Gettysburg Address (Nov. 1863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Four-score and seven years ago…”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That gov. of the people, by the people, and for the people, shall not perish from the earth.”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Words carved into Lincoln Memorial (D.C.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Major Battles/Events of the Civil War (1861-1865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41" name="Picture 9" descr="372px-Gettysburg"/>
          <p:cNvPicPr/>
          <p:nvPr/>
        </p:nvPicPr>
        <p:blipFill>
          <a:blip r:embed="rId1"/>
          <a:stretch/>
        </p:blipFill>
        <p:spPr>
          <a:xfrm>
            <a:off x="5257800" y="838080"/>
            <a:ext cx="35434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533520" y="380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Key Terms: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52280" y="1015920"/>
            <a:ext cx="6324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Confederate States of America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Jefferson Davis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Alexander Stephens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Crittenden Compromise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Fort Sumter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Anaconda Plan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First Battle of Bull Run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attle of Antietam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Emancipation Proclama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attle of Gettysburg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Pickett’s Charge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Siege of Vicksburg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William T. Sherman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Appomattox Court House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John Wilkes Booth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380880" y="1143000"/>
            <a:ext cx="4267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Virginia Campaign (1864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Battle of Spotsylvani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Sheridan in the Shenandoah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Major Battles/Events of the Civil War (1861-1865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44" name="Picture 8" descr="sheridan"/>
          <p:cNvPicPr/>
          <p:nvPr/>
        </p:nvPicPr>
        <p:blipFill>
          <a:blip r:embed="rId1"/>
          <a:stretch/>
        </p:blipFill>
        <p:spPr>
          <a:xfrm>
            <a:off x="5029200" y="1066680"/>
            <a:ext cx="3686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380880" y="1143000"/>
            <a:ext cx="4267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Sherman’s March (1864-5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Atlanta to Savannah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Savannah to Columbi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Columbia to Raleigh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Major Battles/Events of the Civil War (1861-1865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47" name="Picture 12" descr="Map.jpg (46346 bytes)"/>
          <p:cNvPicPr/>
          <p:nvPr/>
        </p:nvPicPr>
        <p:blipFill>
          <a:blip r:embed="rId1"/>
          <a:stretch/>
        </p:blipFill>
        <p:spPr>
          <a:xfrm>
            <a:off x="4495680" y="1371600"/>
            <a:ext cx="441972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gwstatue"/>
          <p:cNvPicPr/>
          <p:nvPr/>
        </p:nvPicPr>
        <p:blipFill>
          <a:blip r:embed="rId1"/>
          <a:stretch/>
        </p:blipFill>
        <p:spPr>
          <a:xfrm>
            <a:off x="285840" y="76212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gwstatue2"/>
          <p:cNvPicPr/>
          <p:nvPr/>
        </p:nvPicPr>
        <p:blipFill>
          <a:blip r:embed="rId2"/>
          <a:stretch/>
        </p:blipFill>
        <p:spPr>
          <a:xfrm>
            <a:off x="4546440" y="1981080"/>
            <a:ext cx="45975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304920" y="838080"/>
            <a:ext cx="42670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Union invades Richmond, 1865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Lee surrenders at Appomatox Court House, Apri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Major Battles/Events of the Civil War (1861-1865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52" name="Picture 9" descr="Rocco%20Surrender"/>
          <p:cNvPicPr/>
          <p:nvPr/>
        </p:nvPicPr>
        <p:blipFill>
          <a:blip r:embed="rId1"/>
          <a:stretch/>
        </p:blipFill>
        <p:spPr>
          <a:xfrm>
            <a:off x="1523880" y="2438280"/>
            <a:ext cx="6810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20040721-05%20-%20VA%20Trip%20-%20%20Appomattox%20Courthouse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380880" y="1143000"/>
            <a:ext cx="4572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Assassination of Lincol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Ford’s Theatr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John Wilkes Booth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Fall of the CSA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Davis jailed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Many unknow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Edmund Ruffin, fireeater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Death Toll: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Union: 364,511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CSA: 260,000 (10% of all men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Immediate Aftermath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56" name="Picture 7" descr="Edmund_ruffin"/>
          <p:cNvPicPr/>
          <p:nvPr/>
        </p:nvPicPr>
        <p:blipFill>
          <a:blip r:embed="rId1"/>
          <a:stretch/>
        </p:blipFill>
        <p:spPr>
          <a:xfrm>
            <a:off x="6324480" y="2819520"/>
            <a:ext cx="239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780px-Battle_of_Gettysburg"/>
          <p:cNvPicPr/>
          <p:nvPr/>
        </p:nvPicPr>
        <p:blipFill>
          <a:blip r:embed="rId1"/>
          <a:stretch/>
        </p:blipFill>
        <p:spPr>
          <a:xfrm>
            <a:off x="914400" y="685800"/>
            <a:ext cx="7429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380880" y="1143000"/>
            <a:ext cx="4572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Young, native-bor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Risk of diseas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Food/provision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Meat, hardtack, coffe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Shoe problem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Camp Lif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60" name="Picture 8" descr="Antietam-5-12-04"/>
          <p:cNvPicPr/>
          <p:nvPr/>
        </p:nvPicPr>
        <p:blipFill>
          <a:blip r:embed="rId1"/>
          <a:stretch/>
        </p:blipFill>
        <p:spPr>
          <a:xfrm>
            <a:off x="4038480" y="1371600"/>
            <a:ext cx="43531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28600" y="838080"/>
            <a:ext cx="45720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Copperhead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NYC Draft Rio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U.S. Sanitary Commiss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Women’s involvement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The Northern Homefron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63" name="Picture 7" descr="1863DraftRiotLynch"/>
          <p:cNvPicPr/>
          <p:nvPr/>
        </p:nvPicPr>
        <p:blipFill>
          <a:blip r:embed="rId1"/>
          <a:stretch/>
        </p:blipFill>
        <p:spPr>
          <a:xfrm>
            <a:off x="3200400" y="2567160"/>
            <a:ext cx="59436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0880" y="1143000"/>
            <a:ext cx="4572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Women’s lives chang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Blockade=food shortag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Financial crisi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Subsitut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Deser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Rich vs. poo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The Southern Homefron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80880" y="137160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1. Why did the Southern states secede and how did Lincoln react?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2. What were some of the causes for which North and South each fought and what were some advantages wielded by each?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3. What were some of the major battles and campaigns of the war, and what were the results?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4. What were some of the problems or disadvantages that caused the South to lose the war?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854640" y="533520"/>
            <a:ext cx="24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Questions: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380880" y="1143000"/>
            <a:ext cx="4572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In Union Army by 1863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Battlefield Contribution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54</a:t>
            </a:r>
            <a:r>
              <a:rPr b="0" lang="en-US" sz="2000" spc="-1" strike="noStrike" baseline="30000">
                <a:solidFill>
                  <a:srgbClr val="3366cc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 Mass. = Fort Wagner (SC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1</a:t>
            </a:r>
            <a:r>
              <a:rPr b="0" lang="en-US" sz="2000" spc="-1" strike="noStrike" baseline="30000">
                <a:solidFill>
                  <a:srgbClr val="3366cc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 Kansas = MO, OK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Struggle for equal pa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White officers, segregated uni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Fort Pillow, T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High casualty rat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After the wa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African Americans in the Union Army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68" name="Picture 6" descr="fleetwood"/>
          <p:cNvPicPr/>
          <p:nvPr/>
        </p:nvPicPr>
        <p:blipFill>
          <a:blip r:embed="rId1"/>
          <a:stretch/>
        </p:blipFill>
        <p:spPr>
          <a:xfrm>
            <a:off x="5334120" y="914400"/>
            <a:ext cx="34131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0880" y="1143000"/>
            <a:ext cx="4572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Cooks, porters, musicians, nurses and attendan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Few served in war or battl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Military service allowed in ’65 but little effect at al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African Americans in the CSA Army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380880" y="1143000"/>
            <a:ext cx="4572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Population, econ., transp., industr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Better leadership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Border stat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Foreign countries stay out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Lincoln defines the cause and motivates peopl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Recap: Why did the North Win?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80880" y="1143000"/>
            <a:ext cx="4572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Superior military strategy in long-ru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Persistence, bigger arm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Better nav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Blockad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CSA had to create army and govt. from scratch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Recap: Why did the North Win?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380880" y="1143000"/>
            <a:ext cx="4572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Division between rich and poor whit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Economic crisis of CSA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Lack of foreign help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CSA deser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Morale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Recap: Why did the North Win?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80880" y="1066680"/>
            <a:ext cx="42674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Southern fears after Lincoln’s election (list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Secession of the Lower South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SC: Dec. 1860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Peace Conventio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Feb ’61: Deep South secedes, forms CS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Tahoma"/>
              </a:rPr>
              <a:t>Jefferson Davi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Tahoma"/>
              </a:rPr>
              <a:t>Alexander Stephen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2860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The Outbreak of War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2" name="Picture 15" descr="davis"/>
          <p:cNvPicPr/>
          <p:nvPr/>
        </p:nvPicPr>
        <p:blipFill>
          <a:blip r:embed="rId1"/>
          <a:stretch/>
        </p:blipFill>
        <p:spPr>
          <a:xfrm>
            <a:off x="5715000" y="1219320"/>
            <a:ext cx="2543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1"/>
          <p:cNvSpPr/>
          <p:nvPr/>
        </p:nvSpPr>
        <p:spPr>
          <a:xfrm>
            <a:off x="22860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The Outbreak of War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04920" y="1143000"/>
            <a:ext cx="4267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The Crittenden Compromise (unpassed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Extend MO Comp Line?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Buchanan’s inac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CSA seizes federal fort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Lincoln’s Inaugura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The mystic chords of memory”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5" name="Picture 18" descr="Lincoln's Inaugural Address"/>
          <p:cNvPicPr/>
          <p:nvPr/>
        </p:nvPicPr>
        <p:blipFill>
          <a:blip r:embed="rId1"/>
          <a:stretch/>
        </p:blipFill>
        <p:spPr>
          <a:xfrm>
            <a:off x="4952880" y="990720"/>
            <a:ext cx="36864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2860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The Outbreak of War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04920" y="1143000"/>
            <a:ext cx="4267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The Attack on Fort Sumte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Suppli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CSA demands surrender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CSA fir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Tahoma"/>
              </a:rPr>
              <a:t>Edmund Ruffin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War begi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4 Upper South states seced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8" name="Picture 8" descr="ftsumter"/>
          <p:cNvPicPr/>
          <p:nvPr/>
        </p:nvPicPr>
        <p:blipFill>
          <a:blip r:embed="rId1"/>
          <a:stretch/>
        </p:blipFill>
        <p:spPr>
          <a:xfrm>
            <a:off x="4648320" y="1066680"/>
            <a:ext cx="38862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tsumpter7"/>
          <p:cNvPicPr/>
          <p:nvPr/>
        </p:nvPicPr>
        <p:blipFill>
          <a:blip r:embed="rId1"/>
          <a:stretch/>
        </p:blipFill>
        <p:spPr>
          <a:xfrm>
            <a:off x="723960" y="1095480"/>
            <a:ext cx="769608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20040919-05%20-%20Inside%20Fort%20Sumter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7"/>
          <p:cNvSpPr/>
          <p:nvPr/>
        </p:nvSpPr>
        <p:spPr>
          <a:xfrm>
            <a:off x="380880" y="1143000"/>
            <a:ext cx="4267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Recap: Four Reasons for Wa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Market Revolu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Rapid Westward Expansion and the issue of slaver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Political inability to compromise or deal; weak presiden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ahoma"/>
              </a:rPr>
              <a:t>Conspiracy theory attitude of each sid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ahoma"/>
              </a:rPr>
              <a:t>Eric Foner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ahoma"/>
              </a:rPr>
              <a:t>The Outbreak of War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20:34:09Z</dcterms:created>
  <dc:creator>Daniel J. Tortora</dc:creator>
  <dc:description/>
  <dc:language>en-US</dc:language>
  <cp:lastModifiedBy>J Franklin Williamson</cp:lastModifiedBy>
  <dcterms:modified xsi:type="dcterms:W3CDTF">2019-04-19T14:51:25Z</dcterms:modified>
  <cp:revision>87</cp:revision>
  <dc:subject/>
  <dc:title>The Early Republic</dc:title>
</cp:coreProperties>
</file>